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29D-4735-4B0F-BBDF-1AE51642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908-43B3-4D59-BC84-98D455AB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BBB-EC80-4B67-93B0-2A42E418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5CE-82EE-4E23-850F-1844E8EA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AE9-4732-4CEA-BF4E-12E1ED0F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F0F-4FA8-4230-AC15-2152319F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49A-4E58-4AE8-9B70-37DF90ED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1DA-220E-46C8-B2F1-7568AF62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068-DC32-4D3C-B895-38C47D6F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A7D-1001-47AD-BD8D-87B7EE5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1BD-B51D-491B-B67F-122C5F70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E91-E04E-4308-A9D5-7ECE7D6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1A5B-D3DE-411C-A0D9-08880FB3012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9 Očakávaj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smútok a žia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ení na slasť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herná u n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ká nás vla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čakávaj Pána, na neho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ho pomoc dúf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usíš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erný je, nikdy neskl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aj búrka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nko zasvit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ríboji skúšo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úzkosti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Boh verný moc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chráni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čakávaj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ej v ňom m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jeho svätým noh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emä odkla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, všetko zlé raz sa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Záchrancu kto dúf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e nezhy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verný Bože, náš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teš deti sv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jav im svoj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čakávaj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vykroč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ad neho, vod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ejší ni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ho len vždy sa spolieh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ľúbil, že nám vrá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aženosti r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17:14Z</dcterms:modified>
  <cp:revision>22</cp:revision>
  <dc:subject/>
  <dc:title>Je veľký náš Pán, on slávy je Kráľ Nech do všetkých strán  spev vrúcnych znie chvál.</dc:title>
</cp:coreProperties>
</file>